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584F8-6C30-4FED-A752-BF4D22FA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5F9E-A939-4145-921F-24198E7D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72CD9-D40E-4CA7-8CFA-D7D48355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2A236-596F-4829-B85D-6A7E74C6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FCB4-5E33-472F-A57C-6F59EE63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5884-405B-478D-B947-AFCECC53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676A-3513-4BF4-9CC7-215C138B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8224-5434-4C6E-A6B3-615F5DE3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12D7-4661-4944-9525-726E13A7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44AD-1621-4ED3-9402-4C87D9F2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4B64-9520-41CC-820A-1A08A332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0B78C-9742-4E8A-AB39-67D8D86B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CA87-732A-43B8-9FCF-771BEC94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3D12-2818-4175-B861-C48564C8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D24C-4AE5-40AD-98E9-84D62B37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FBFE-B111-4373-B181-86F36F3E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AB6A-FC7C-4E10-A680-E973A784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AE039-242F-4A4A-8303-2D37679C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17BFE-0253-4A88-A560-B1A6674C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92616-CCA8-4F71-BDFA-7AEF8EC6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BB3EC-041B-43AA-8C11-55B058DD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6B715-A9E2-43BA-A026-8A1C2C23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FF670-604F-465D-969B-FD3ECF83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091A0-3E32-431D-BC3A-74B9CB48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3A76-4311-449D-891D-874F638040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4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2D76-3A91-4947-856C-5E281200A3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0560" y="1844280"/>
            <a:ext cx="709308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3800" spc="-1" strike="noStrike">
                <a:solidFill>
                  <a:srgbClr val="ffcccc"/>
                </a:solidFill>
                <a:latin typeface="Tahoma"/>
              </a:rPr>
              <a:t>Выявление особенностей взаимного </a:t>
            </a:r>
            <a:br>
              <a:rPr sz="3800"/>
            </a:br>
            <a:r>
              <a:rPr b="1" lang="en-US" sz="3800" spc="-1" strike="noStrike">
                <a:solidFill>
                  <a:srgbClr val="ffcccc"/>
                </a:solidFill>
                <a:latin typeface="Tahoma"/>
              </a:rPr>
              <a:t>расположения объектов и геометрических фигур</a:t>
            </a: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24080" y="4626000"/>
            <a:ext cx="6019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ыполнили студентки 646 г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Шмидт А.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емакова Я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подаватель: Габова М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Medium Cond"/>
              </a:rPr>
              <a:t>Восприятие пространства включает восприятия расстояния или отдаления, в котором предметы расположены от нас и друг от друга, направления, в котором они находятся, величины и формы, объёма предм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04000" y="4597560"/>
            <a:ext cx="203364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Реальные предметы в реальном пространстве, находясь один вне другого, неизбежно располагаются в том или ином направлении, на том или ином расстоянии друг от друга. Только по мере того как отражаются положение, направление, расстояние, величина, форма, определяемые сложной системой пространственных отношений, а не одна лишь недифференцированная внеположность, формируется подлинное восприятие простран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Такое восприятие пространства, включающего в себя осознание более или менее сложной системы отношений, отражающих соотношения вещей в реальном пространстве, конечно, не является первичной чувственной данностью. Оно - продукт значительного разви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905600" y="4581360"/>
            <a:ext cx="1238400" cy="18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Восприятие пространства - положения предмета в пространстве, его величины, контура, рельефа, так же как его покоя и движения, - совершается обычно движущимся глазом, и мышечное чувство - в сочетании с собственно зрительными ощущениями - играет в деятельности самого глаза существенную 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48360" y="4221000"/>
            <a:ext cx="34574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Восприятие величины и формы предметов осуществляется в результате сочетания в опыте человека зрительных, осязательных и кинестетических (мускульно-двигательных) ощущ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Восприятие объемности и удаленности предметов осуществляется за счет бинокулярного зрения (зрения двумя глазами). Восприятие предмета зависит не только от величины его изображения на сетчатке глаза, но и от силы напряжения глазных мышц, которая изменяется в зависимости от удаленности предмета. Существенное значение для восприятия удаленности предмета имеет сравнение его величины с хорошо известной величиной других предме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Пространственное перемещение предметов, их движение воспринимается в зависимости от их удаленности и скорости движ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Способность правильно оценивать пространственные отношения называется глазомер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Способность видеть самые мелкие предметы называется остротой зрения или разрешающей способностью гла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164360" y="5229360"/>
            <a:ext cx="146196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Подлинное восприятие пространства, адекватно отражающее его объективные свойства и отношения, является очень сложным процессом, в котором чувственные и мыслительные компоненты даны в сложном единстве и взаимопроникнов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479736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anklin Gothic Medium Cond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03640" y="3789360"/>
            <a:ext cx="273672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2:49:04Z</dcterms:created>
  <dc:creator>Аня</dc:creator>
  <dc:description/>
  <dc:language>en-US</dc:language>
  <cp:lastModifiedBy>Аня</cp:lastModifiedBy>
  <dcterms:modified xsi:type="dcterms:W3CDTF">2010-12-25T13:45:22Z</dcterms:modified>
  <cp:revision>2</cp:revision>
  <dc:subject/>
  <dc:title>Выявление особенностей взаимного расположения объектов и геометрических фигур </dc:title>
</cp:coreProperties>
</file>